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FAF0-ACAD-4E81-9C47-04A508CC3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3B2C-460D-4396-BF36-1B9ABA62C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7C03-63F8-4308-AF80-87A1CD17D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1208-8A7C-40CE-ACD9-8A028336A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BDDC-50D4-48D3-A714-918841402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194D-55E7-46AB-A728-1C00EB9A5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01B3-A1DE-435A-B13A-D9E94330F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1325-6791-4955-8E81-1EA1AD0AB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6A58-F3F5-490F-A2FF-FA2E85B4A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A0BA-0CBF-4684-9E41-E87B5EFE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BE91-1E9F-4C7D-B03D-89D7D8CF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9272-8ADD-454C-B3A6-84C92AE8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62949-D65C-4D0C-8F15-D7C9CE0BD9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nineplanets.org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5105520" cy="122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JUPI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0" y="54864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uma Om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228600" y="1447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picture’s Jupiter is taken by Voyager 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http://pds.jpl.nasa.gov/planets/images/browse/jupiter/jupiter.jpg"/>
          <p:cNvPicPr/>
          <p:nvPr/>
        </p:nvPicPr>
        <p:blipFill>
          <a:blip r:embed="rId1"/>
          <a:stretch/>
        </p:blipFill>
        <p:spPr>
          <a:xfrm>
            <a:off x="4343400" y="380880"/>
            <a:ext cx="4568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oration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satellite names and dates that have explored your plan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a photo (with a caption that describes the mission) of at least one of the satellites that has visited your plane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more slides if you need 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ine Plan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discovered your planet? When? How? W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how the planet got its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5410080" y="4343400"/>
            <a:ext cx="1881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ar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planet from the s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ance from the sun:5.2 A.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days to orbit around the sun:4332.59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ngth of one day is 9hours 50minu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 an photo on this slide that shows where your planet is located in relative to other plan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et Measu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:1.900e27kg     Volume:1,4465172e+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sition and Atmosp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the core and surface composition of your plan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the composition of the atmosphere if any.  If your planet does not have an atmosphere, simply state your planet does not have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rface Cond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face temperatures – coldest, hottest,             average= -140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the details about weather found on your planet.  If you are doing Jupiter or Neptune, this is where you should show and tell about the large sp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piter have 63 mo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on’s name is Callisto, Europa, Ganymede, Lo (and mo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t the name of the most interesting moon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l us about this interesting mo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several fa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a photo (with a captio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ain, if your planet does not have moons, add more photos and cap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information about the rings surrounding your plan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a photo (with a caption) of the r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r planet does not have rings, add more photos and descriptive cap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31T15:39:58Z</dcterms:created>
  <dc:creator>Sean Gardinier</dc:creator>
  <dc:description/>
  <dc:language>en-US</dc:language>
  <cp:lastModifiedBy>nauczyciel006n</cp:lastModifiedBy>
  <dcterms:modified xsi:type="dcterms:W3CDTF">2009-02-02T11:15:08Z</dcterms:modified>
  <cp:revision>35</cp:revision>
  <dc:subject/>
  <dc:title>Name of Planet</dc:title>
</cp:coreProperties>
</file>